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1069-2258-403E-A08C-2F6AB25E19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ammed cell de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C46D-AA09-43FA-B627-55B1417CD9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 DOG  BIT  THE  CAT  - deletion of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 DOB  ITT  HEC  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codon after the deletion will be 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nt mutations are normally less harmful because they only disrupt one cod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3FB5-E6C1-47AB-AACE-0A19E54AC3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2776-0B64-4956-9CEA-6487E8A1F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1018-8C2A-4A8B-883D-B9AAF60D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DB7B-8F67-4245-945C-31BC42CD5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4C9B-5622-4A1A-81FC-4A9E8C887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C74A-A49D-4F1A-82C9-E0A1E913F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BE7A-C2DB-4F6F-86A0-56969D5E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7AD1-8144-4F44-829B-318DB0BB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636F-1BB7-49C1-A90F-AE40A83A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E199-78A3-4C28-B869-807551D8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A3EA-26C7-48BB-BA24-A282EF15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0D7B-DA9F-4CE1-BF52-D53A43F3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959B-B3BD-45DF-A5FF-56C2EF66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2651-1133-4222-ADE0-BC00D9EF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F3BAE-DFD9-4544-BF33-4D010FDC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98A9-99FC-4ED0-98C5-EB509D45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5F48-63AA-4F20-BFC6-6E806541B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E52B-AC88-4F4C-842A-2E69B4F8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513A32-1D35-406B-96F2-D484EE383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B344B7-FD2E-46D1-B303-5DDE484D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92EC73-BEBA-4AE2-95A7-76EB9BFB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776E41-69C9-4362-96C9-EE96EF01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1AF3EE-7229-4A25-9BC6-EAA36CC7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E039-2FB1-4A59-B4DC-1597AFF1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B67EA4-40CD-4A62-9DCC-A786DEBD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388DE7-7932-4757-976C-615BDA07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D77640-71C7-450A-AB96-AD982C81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800B49-BF25-4DBE-8915-D2AB8CCA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95D2CF-D5D6-4F1E-A83E-C8A65580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788052-633F-4920-ABC9-20C281F5A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A6109C-77F2-4DC5-AEC9-415F10886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F4C54-7B64-4DEE-826E-9EBD8E25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4B7D0-66CD-4476-A16B-63DAF013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8D863-7FD3-4EA9-B9BC-8F9D614B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4527-E0C7-4B25-952A-B2B192F4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0BFEC-2B14-434E-BDF5-3F6C9FE6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3234B-BA37-4DA6-A11D-3139D7C1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A3E59-EB3C-4EC1-92EC-BA7FD61A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6F62C-19E4-4FE8-84F0-5CE9249C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7C47E-C1E2-4E30-9C12-150346FE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6E476-0E87-41FD-8CE6-9F5B5D3C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6A36B-58FF-4AF7-B502-D80E7C99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69087-660D-4BA2-BCE3-2B3478FD7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AF0B3-AA25-4E21-B71D-9AA852676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64CD-823B-4E25-84F8-0FA52B51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A838-FFDE-4CBD-AECA-F4E5E5F4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C65D-7BD0-435E-8F21-C14C8D73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6DF0-7AF0-474C-BC4D-EC1B44FD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62E3-940B-4A7C-944F-8EA04D4C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F621-A804-495E-942F-E5B74784C64A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CD95-116B-438D-8817-33D2C4BD67C2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762F-A6E7-4345-A156-F75B2F28D0F2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26A0-D51D-414D-97E6-B45C5FECCB1F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johnkyrk.com/meiosis.html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ohnkyrk.com/meiosis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Meiosis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ells formed by mitosis are identical to each other and to the parent cel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 meiosis however, crossing over provides a way to rearrange allele combina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Variability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anim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Gene Mutati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7524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 the DNA of all the cells in our body were lined up end to end, it would stretch nearly 62 billion miles. (Distance between Earth and Jupiter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re’s bound to be some mistak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y change in the DNA sequence is called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mutation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mutation may have positive effects, harmful effects, or no observable effects whatsoev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auses of Gene Mutati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ny mutations are caused by factors in the environment. Any agent that can cause a change in DNA is called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mutagen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Mutagens include radiation, chemicals, and high temperatures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an cause uncontrolled cell division-cancer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38188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Gene Mutations (Sec 11.3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520" y="2244600"/>
            <a:ext cx="4041720" cy="4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anchor="ctr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f3f3f"/>
                </a:solidFill>
                <a:latin typeface="Georgia"/>
              </a:rPr>
              <a:t>Reproductive Cell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21040" y="2244600"/>
            <a:ext cx="4041720" cy="4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anchor="ctr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f3f3f"/>
                </a:solidFill>
                <a:latin typeface="Georgia"/>
              </a:rPr>
              <a:t>Body Cell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520" y="2707920"/>
            <a:ext cx="4041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perm or Egg cel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f this cell takes part in fertilization, all the cells will have the mutation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717800" y="2707920"/>
            <a:ext cx="4041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on reproductive cel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ie. Skin, muscle, bone, cancer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hen cell divides, the new cell will have the same mut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un light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ypes of Gene mutati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2949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int mut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hange in a single base pair in DNA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THE   DOG   BIT   THE   CAR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THE   DOG   BIT   THE   CAT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 single change can change the whole structure of a protein. That may or may not effect the protein functio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3505320" y="3886200"/>
            <a:ext cx="5029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ypes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0880" y="1371600"/>
            <a:ext cx="8229600" cy="13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rameshif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When a single base is added to or deleted from DNA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2971800" y="2362320"/>
            <a:ext cx="432432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Frameshift (cont.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 DOG  BIT  THE  CAT  - deletion of 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 DOB  ITT  HEC  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very codon after the deletion will be differ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oint mutations are normally less harmful because they only disrupt one cod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hromosomal Mutati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7524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hanges  may occur in chromosomes as well as in gen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ometimes parts of chromosomes are broken off and lost during mitosis or meio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ypes of Chromosomal mutati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Deletio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When part of a chromosome is left out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nsertio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When part of a chromatid breaks off and attaches to its sister chromatid. The result is a duplication of genes on the same chromosome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nversio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When part of a chromosome breaks off and reattaches backward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ranslocation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When part of a chromosome breaks off and is added to a different chromosome.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ele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1600200" y="137160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Recap.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6840" y="2249640"/>
            <a:ext cx="259092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n (Diploid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 (haploid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ito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4" name="Picture 6" descr=""/>
          <p:cNvPicPr/>
          <p:nvPr/>
        </p:nvPicPr>
        <p:blipFill>
          <a:blip r:embed="rId1"/>
          <a:stretch/>
        </p:blipFill>
        <p:spPr>
          <a:xfrm>
            <a:off x="3103560" y="1828800"/>
            <a:ext cx="5265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Inser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693576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Invers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037280" cy="52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ransloca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tretch/>
        </p:blipFill>
        <p:spPr>
          <a:xfrm>
            <a:off x="1371600" y="1486080"/>
            <a:ext cx="676908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y Meiosis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itosis- the cells that divide have the same number of chromosomes (2n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ach offspring formed would have double the number of chromosomes (46,92, 138…etc in humans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early, there must be another wa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eiosis                         </a:t>
            </a:r>
            <a:r>
              <a:rPr b="0" lang="en-US" sz="2800" spc="-1" strike="noStrike" u="sng">
                <a:solidFill>
                  <a:srgbClr val="67afbd"/>
                </a:solidFill>
                <a:uFillTx/>
                <a:latin typeface="Trebuchet MS"/>
                <a:hlinkClick r:id="rId1"/>
              </a:rPr>
              <a:t>animation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ccurs in specialized body cells that produce gamet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Males gametes=sperm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emale gametes=egg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sists of 2 separate divis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Meiosis I (starts with one diploid cell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Meiosis II (ends with 4 haploid cells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eiosis I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	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erpha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Replication of chromosom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phase 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NA coils up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omologous chromosomes line up to form a tetrad (two chromosomes paired tightly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rossing over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Chromosomes break and exchange information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Results in new combinations of alleles 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eiosis I </a:t>
            </a:r>
            <a:r>
              <a:rPr b="0" lang="en-US" sz="2000" spc="-1" strike="noStrike">
                <a:solidFill>
                  <a:srgbClr val="424456"/>
                </a:solidFill>
                <a:latin typeface="Trebuchet MS"/>
              </a:rPr>
              <a:t>(cont.)</a:t>
            </a: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taphase I (meta means middl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30720" indent="-2361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pindle fibers attach to centromeres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30720" indent="-2361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Tetrads line up along equator (via spindle fibers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885240" indent="-209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*lined up side by side (unlike mitosis)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aphase 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30720" indent="-23616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omologous chromosomes separate and move to opposite ends of cell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885240" indent="-209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Sister chromatids do not split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885240" indent="-209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Each new cell only receives one chromosome from each pair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eiosis I </a:t>
            </a:r>
            <a:r>
              <a:rPr b="0" lang="en-US" sz="2000" spc="-1" strike="noStrike">
                <a:solidFill>
                  <a:srgbClr val="424456"/>
                </a:solidFill>
                <a:latin typeface="Trebuchet MS"/>
              </a:rPr>
              <a:t>(cont.)</a:t>
            </a: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lophase 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pindle is broken dow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hromosomes uncoil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ytoplasm divides to form 2 new cell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ach cell has half the genetic information as original cell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Basically mitosis up to this poi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nother cell division is still needed. Why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Meiosis II</a:t>
            </a:r>
            <a:br>
              <a:rPr sz="3600"/>
            </a:br>
            <a:r>
              <a:rPr b="0" lang="en-US" sz="2800" spc="-1" strike="noStrike">
                <a:solidFill>
                  <a:srgbClr val="424456"/>
                </a:solidFill>
                <a:latin typeface="Trebuchet MS"/>
              </a:rPr>
              <a:t>(Division of the products of meiosis I)</a:t>
            </a:r>
            <a:br>
              <a:rPr sz="3600"/>
            </a:b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phase I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entrioles go to opp. Sides of cell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pindle fibers attach to chromosom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taphase I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hromosomes line up at equator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aphase I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entromere of each chromosome split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ister chromatids separate to opp. poles of cell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eiosis II </a:t>
            </a:r>
            <a:r>
              <a:rPr b="0" lang="en-US" sz="2000" spc="-1" strike="noStrike">
                <a:solidFill>
                  <a:srgbClr val="424456"/>
                </a:solidFill>
                <a:latin typeface="Trebuchet MS"/>
              </a:rPr>
              <a:t>(cont.)</a:t>
            </a:r>
            <a:endParaRPr b="0" lang="en-US" sz="2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lophase I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uclei reform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pindles break dow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Cell divid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4 haploid cell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438086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gametes (sperm or egg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nimatio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6:51:03Z</dcterms:created>
  <dc:creator>Registered User</dc:creator>
  <dc:description/>
  <dc:language>en-US</dc:language>
  <cp:lastModifiedBy>Registered User</cp:lastModifiedBy>
  <dcterms:modified xsi:type="dcterms:W3CDTF">2009-02-04T12:37:12Z</dcterms:modified>
  <cp:revision>11</cp:revision>
  <dc:subject/>
  <dc:title>Meiosis</dc:title>
</cp:coreProperties>
</file>